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E3F-4E43-46F9-944B-495C341A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25B-9796-4C00-91EB-BBB1C89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6C4-F4AD-4FCD-A403-65DD900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AD9-DFF6-44D1-A355-B0FF242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A4E9-B437-4016-B77A-09F59B5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9E14-1276-42C3-8109-72A4591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6991-A4B1-43BE-A106-A9D54A16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F51C-F555-4DFB-A798-091F415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20F-A401-40A0-8D54-09D6A0D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00F-14BA-4CAF-896A-72D9B7D0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7ED-FCD1-45C5-A35D-E2D98D5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DED-F34A-4A81-9677-EEB1203A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8855-1BAC-4FF3-A097-B34EFE9F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7F3B-9277-4348-A22D-398A9A0C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27E9-A5C3-4C3A-8C4D-CB3AA53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AE5-D183-4217-BF88-AD5E39E2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ECB1-7A63-4A8B-BE1E-5F5CC36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027CB-294C-4E7D-9117-37B0AE3F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BDDE1-C4BA-4500-A97C-A456C58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D53FC-5824-46F2-AEF4-F26D65C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82431-2C9D-4394-9307-084281C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6AA0A-5A2B-408D-9078-CE78EDA5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D45-4247-4F5A-B774-C28C50B9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BD1C7-61A5-4FCC-8D23-80376F5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CA2CD-CBE4-43F9-8206-494E0CF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C28CF-0E4B-4B20-8424-3318BC0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99499-220C-455C-801E-5DDACACE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3DD5D-51FA-443D-B6FF-D6807361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7B879-CA82-400C-A63E-164D80B7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0C22F-497D-4AA9-A060-02F7C121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0694-42D2-4505-9747-716D694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5370-46CB-4EC6-A013-4D66223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AFC5-9A51-47E5-9253-12EAE21C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2EA-9AD0-4E5B-9832-9288013E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418C-1406-4B19-A431-6A8D0FC6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2D8C-ECDC-4DB7-80FF-44634154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D20B-903D-494D-AD2F-2E1D39A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BA7F-2E45-4C02-827C-A22C3F3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10E6-2F02-4E79-821D-C6AEDAA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74E2-B04C-4F45-882F-07C5C7B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3C3EC-C9B3-4AC0-98F8-9583A49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2D1A-EBEA-44EA-8DC1-EBA0B2C9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D7F1-7403-4A84-95B8-619653B5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F64-D446-471F-8F27-BBCAE7E3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63B-2C65-450C-9FA9-2B6BE176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CCA-77C1-44AA-9F1E-CA04641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183-96DF-457F-AA8C-1DCBB750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8C7-A957-4B9B-98C5-3F04F61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724-128D-46EE-91B3-8D362B68BA0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A7C-F36A-4AEC-8F84-DD039277BD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5A4D-A118-4892-89B0-931D01FC056A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5970-337B-456F-B02A-AFA257097B6A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8E70-066D-4F1B-B332-04E1501C1587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CEF-23D5-4181-8E78-6C50FC5F3CB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3C67-E43D-49FD-8C63-B4C72EB34478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D2CB-53F7-4AC2-BCBA-B3492BDCAA4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reer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The Second Half of CHV 2O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hat Is This Course All About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52320" y="2170080"/>
            <a:ext cx="7902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YO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YOUR personality, interests, and skil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re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search for YOUR possible future career and other interesting care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future job prospects ar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lanning skil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king goal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YOU need to get the career YOU wa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ime manageme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T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rite a resume and cover lette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ucceed in an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 up after an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Much Is Everything Worth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4160"/>
            <a:ext cx="67770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erm Evaluation: 7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wo Tes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nal Evaluation: 3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Exam: 10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reers ISU: 20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reer Resear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uest Speaker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jec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416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hapters 1, 2, and 3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Occasional portfolio conferences to make sure you’re staying on top of things </a:t>
            </a:r>
            <a:r>
              <a:rPr b="0" lang="en-US" sz="2000" spc="-1" strike="noStrike">
                <a:solidFill>
                  <a:srgbClr val="3e3d2d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ow Others See You Surve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oal Journal 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hort Essays/Reflections, etc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ssessm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earning Styl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nteres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reers, etc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-129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SU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4520" y="1130400"/>
            <a:ext cx="77626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est Speaker Interview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roups of 2 or 3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rrange for a guest to talk about their career to the clas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ate May/Early Ju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Dates are booked on first come, first served basis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check as soon as possible!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ick someone who is comfortable in front of crowds, has an interesting job, and has a passion for their job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Your guest speaker is YOUR responsibility, so you will need to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eet with them,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prepare them with your questions,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have questions to ask after the interview in case the class is not asking a lot of questions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thank you gift, etc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3 Reports: 1 on your guest’s interview, 2 on others’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me Things to Consid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is mainly a project-based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e will only have 3 tests, including a final exa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eeping on top of your work is </a:t>
            </a:r>
            <a:r>
              <a:rPr b="1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CRUCIAL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so you don’t fall behin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half is ALL ABOUT YOU!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YOU learn best, what YOU enjoy most, YOUR career prospects, YOUR cover letter and resume, et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ays To Succeed In This Cours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e to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eep on top of your wor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time in class efficiently (i.e.: do work in class so you don’t have to take as much – if any – home with you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rst Thing’s Firs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46120" y="2323800"/>
            <a:ext cx="80265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et a portfolio for Friday (i.e.: duotang,etc.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ing in pictures/markers/pencil crayons/magazines to decorate your portfolio with things about YO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s will stay in class. Any work not finished can be taken home to complet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ring a positive quote for Fri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is is your title page that you will also be decora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cover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09:01Z</dcterms:created>
  <dc:creator>Sarah</dc:creator>
  <dc:description/>
  <dc:language>en-US</dc:language>
  <cp:lastModifiedBy>Sarah</cp:lastModifiedBy>
  <dcterms:modified xsi:type="dcterms:W3CDTF">2012-04-15T20:43:09Z</dcterms:modified>
  <cp:revision>9</cp:revision>
  <dc:subject/>
  <dc:title>Careers</dc:title>
</cp:coreProperties>
</file>